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2FF-C7DD-4A7D-AB5C-30C7A97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599-BD62-4800-8967-7E15D0E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BC4-DADF-453F-9EC0-C47A21FD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021-0DAE-4229-8B7A-9CE81673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BC7-109A-45E2-AAA5-EB3458DD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972-47ED-4258-A13D-7DAFB45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20C-B868-4B6E-B107-D6DB8E9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552-C81A-490B-AD54-B4ABC66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D7E-488F-44EC-9A7B-35F3BC77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1CE-85F9-4DCF-A68F-0379C1E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70C-60B6-4CDE-BBF1-C581855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740-55DE-4E55-9D95-CF231B7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A6D-EAFD-4731-A347-20B63012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7cylfQtkDg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F_BA8e14Bw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lHtzU133NI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xtutor.ca/" TargetMode="External"/><Relationship Id="rId2" Type="http://schemas.openxmlformats.org/officeDocument/2006/relationships/hyperlink" Target="http://www.lextutor.ca/" TargetMode="External"/><Relationship Id="rId3" Type="http://schemas.openxmlformats.org/officeDocument/2006/relationships/hyperlink" Target="http://www.lextutor.ca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6400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The importance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Storie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01508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324320"/>
            <a:ext cx="3451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133640"/>
            <a:ext cx="3962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have b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ec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suck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s to “Westerniz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th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llowed to          speak their                 native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ies a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lisle-indian-school-1885-a" descr=""/>
          <p:cNvPicPr/>
          <p:nvPr/>
        </p:nvPicPr>
        <p:blipFill>
          <a:blip r:embed="rId1"/>
          <a:stretch/>
        </p:blipFill>
        <p:spPr>
          <a:xfrm>
            <a:off x="2819520" y="3117960"/>
            <a:ext cx="6126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04920" y="91440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k = The Peo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d native peoples together as 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y telling becomes very important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mai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id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klore serve as an important source of knowledge and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52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es of Folk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71960"/>
            <a:ext cx="3048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 (dru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N01507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881520"/>
            <a:ext cx="3310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13364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expres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behavior (Movies about da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Taboos (Boy who cried wo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es of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285264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can express a group ide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are how a people se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exp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ulture sees itself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als the truth to 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N01642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519440"/>
            <a:ext cx="26877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133640"/>
            <a:ext cx="8686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some of modern America’s her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/What do we va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our stories say about America as a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merican 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2602_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45260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PE03446_" descr=""/>
          <p:cNvPicPr/>
          <p:nvPr/>
        </p:nvPicPr>
        <p:blipFill>
          <a:blip r:embed="rId2"/>
          <a:stretch/>
        </p:blipFill>
        <p:spPr>
          <a:xfrm>
            <a:off x="5846760" y="2286000"/>
            <a:ext cx="192564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PE01852_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1800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76320"/>
            <a:ext cx="906768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ordanc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xtutor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a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“Concordan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“Englis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one of the vocabulary words &amp; use a phrase you find to start writing your own leg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rough draft of your legend and have it ready for classmates to proof read tomorrow. 1 p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23:44:19Z</dcterms:created>
  <dc:creator> </dc:creator>
  <dc:description/>
  <dc:language>en-US</dc:language>
  <cp:lastModifiedBy> </cp:lastModifiedBy>
  <dcterms:modified xsi:type="dcterms:W3CDTF">2010-06-11T00:23:51Z</dcterms:modified>
  <cp:revision>4</cp:revision>
  <dc:subject/>
  <dc:title>PowerPoint Presentation</dc:title>
</cp:coreProperties>
</file>